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533160"/>
            <a:ext cx="80769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0102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endshow"/>
          </p:cNvPr>
          <p:cNvSpPr/>
          <p:nvPr/>
        </p:nvSpPr>
        <p:spPr>
          <a:xfrm>
            <a:off x="8305920" y="601668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firstslide"/>
          </p:cNvPr>
          <p:cNvSpPr/>
          <p:nvPr/>
        </p:nvSpPr>
        <p:spPr>
          <a:xfrm>
            <a:off x="7620120" y="601668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079840" y="773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Verdana"/>
              </a:rPr>
              <a:t>7.2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33520"/>
            <a:ext cx="8076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uslim Emp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447920"/>
            <a:ext cx="8076960" cy="40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Big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fter the early spread of Islam, three large Islamic empires formed—the Ottoman, Safavid, and Mugh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ain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Ottoman Empire covered a large area in eastern Eur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afavid Empire blended Persian cultural traditions with Shia Isl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Mughal Empire in India left an impressive cultural heri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83600" y="401760"/>
            <a:ext cx="349200" cy="339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ore Scholarly Advanc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0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edic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Muslims’ greatest scientific achievements may have come in medic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doctor named Ar-Razi discovered how to diagnose and treat the deadly disease smallpox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hilosop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Muslim philosophy focused on spiritual issues, which led to a movement called Sufis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ufism teaches that people can find God’s love by having a personal relationship with G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2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slam influenced styles of literature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and the arts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581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Lit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wo forms of literature were popular in the Muslim world—poetry and short stor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greatest architectural achievements were mosques. They often had a dome and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inaret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—narrow towers from which Muslims are called to pray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1240" indent="-21708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Patrons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, or sponsors, used their wealth to pay for elaborately decorated mosq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ore Islamic Influence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361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0720" indent="-21024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ecause they could not represent people or animals in paintings due to their religion, Muslim artists turned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calligraphy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, or decorative writing, into an art fo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0720" indent="-21024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y used this technique to decorate buildings and mosq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0102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0102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514600" y="457200"/>
            <a:ext cx="4524480" cy="5484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9040" y="1752480"/>
            <a:ext cx="8318520" cy="2291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19040" y="2133720"/>
            <a:ext cx="8318520" cy="1676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0102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2478240"/>
            <a:ext cx="8318520" cy="1560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30080" y="382680"/>
            <a:ext cx="7651800" cy="5484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44600" y="773280"/>
            <a:ext cx="8318520" cy="4865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05320" y="2286000"/>
            <a:ext cx="1657080" cy="1657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1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uslims ruled the Ottoman Empire, which was a political and cultural force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582720" cy="3733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 Ottomans were aided by slave soldiers called Janissa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They had new gunpowder weapons, such as the cann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Mehmed II and Suleyman I led conquests that turned the Ottomans into a world pow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0560" y="2133360"/>
            <a:ext cx="3582720" cy="37335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During Suleyman’s rule, the Ottoman Empire reached its cultural peak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28600">
              <a:spcBef>
                <a:spcPts val="1125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Poets wrote beautiful wor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28600">
              <a:spcBef>
                <a:spcPts val="1125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Architects turned Istanbul into a Muslim cit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1125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Women had limited freedo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1880" y="38782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81880" y="3425760"/>
            <a:ext cx="160560" cy="160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76520" y="457200"/>
            <a:ext cx="605160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4600" y="660240"/>
            <a:ext cx="8318520" cy="5081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6243480" cy="5486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70102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0120" y="762120"/>
            <a:ext cx="8496360" cy="4762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8120" y="21859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61560" y="455616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lick window above to start play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0102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Ottoman Government and Society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3124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sultan</a:t>
            </a: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, or Ottoman ruler, issued laws and made all major decisions in the emp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Ottoman society was divided into two classe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udges and people who advised the sultan were part of the ruling 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8080" indent="-21924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ose who didn’t fit into the ruling class made up the other class. Many of these were Christians or Jews from lands the Ottomans had conque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2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The Safavid Empire blended Persian cultural traditions with Shia Islam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2514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conflict arose over who should be caliph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slam split into two grou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hia thought that only members of Muhammad’s family could become caliph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unni thought it did not matter as long as they were good Muslims and strong lea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Safavid Empire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2514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afavid Empire began when the Safavid leader Esma’il conquered Persia and made himself shah, or k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e made Shiism the official religion of the emp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Safavids blended Persian and Muslim tradi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manufacturing of traditional products, such as handwoven carpets, silk, and velvet, was encourag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3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The Mughal Empire in India left an impressive cultural heritage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5000"/>
              </a:lnSpc>
              <a:spcBef>
                <a:spcPts val="751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Babur established the Mughal Empire, but it grew mostly under an emperor named Akbar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5000"/>
              </a:lnSpc>
              <a:spcBef>
                <a:spcPts val="751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kbar’s tolerant policies helped unify the emp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5000"/>
              </a:lnSpc>
              <a:spcBef>
                <a:spcPts val="751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A conflict of cultures led to the end of this empire, but resulted in a culture unique to the Mughal Emp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5000"/>
              </a:lnSpc>
              <a:spcBef>
                <a:spcPts val="751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Cultures that blended in the empire inclu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7560" indent="-212400">
              <a:lnSpc>
                <a:spcPct val="95000"/>
              </a:lnSpc>
              <a:spcBef>
                <a:spcPts val="75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usli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7560" indent="-212400">
              <a:lnSpc>
                <a:spcPct val="95000"/>
              </a:lnSpc>
              <a:spcBef>
                <a:spcPts val="75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Hind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7560" indent="-212400">
              <a:lnSpc>
                <a:spcPct val="95000"/>
              </a:lnSpc>
              <a:spcBef>
                <a:spcPts val="75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ersi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7560" indent="-212400">
              <a:lnSpc>
                <a:spcPct val="95000"/>
              </a:lnSpc>
              <a:spcBef>
                <a:spcPts val="751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ndi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079840" y="774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Verdana"/>
              </a:rPr>
              <a:t>7.2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33520"/>
            <a:ext cx="8076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ultural Achie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447920"/>
            <a:ext cx="8076960" cy="31240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The Big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uslim scholars and artists made contributions to science, art, and lit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ain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uslim scholars made advances in various fields of science and philosop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Islam influenced styles of literature and the a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6172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firstslide"/>
          </p:cNvPr>
          <p:cNvSpPr/>
          <p:nvPr/>
        </p:nvSpPr>
        <p:spPr>
          <a:xfrm>
            <a:off x="7010280" y="601668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83600" y="401760"/>
            <a:ext cx="349200" cy="339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Main Idea 1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 Muslim scholars made advances in various fields of science and philosophy.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uslim scholars made advances in astronomy, geography, math, and sci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Many ancient writings were translated into Arabi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ultural Achievements</a:t>
            </a:r>
            <a:endParaRPr b="1" lang="en-US" sz="2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7560" indent="-21240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Geographers made more accurate maps than before, mostly due to the contributions of al-Idris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7560" indent="-21240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 Muslim mathematician al-Khwarizmi laid the foundations for modern algeb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1250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7560" indent="-212400">
              <a:spcBef>
                <a:spcPts val="1250"/>
              </a:spcBef>
              <a:buClr>
                <a:srgbClr val="00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hey made improvements to the astrolabe, which the Greeks had invented to chart the positions of the sta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8:32:35Z</dcterms:created>
  <dc:creator>Information Technology</dc:creator>
  <dc:description/>
  <dc:language>en-US</dc:language>
  <cp:lastModifiedBy>San Diego City Schools</cp:lastModifiedBy>
  <cp:lastPrinted>2005-02-01T16:21:45Z</cp:lastPrinted>
  <dcterms:modified xsi:type="dcterms:W3CDTF">2012-12-18T17:10:54Z</dcterms:modified>
  <cp:revision>244</cp:revision>
  <dc:subject/>
  <dc:title>PowerPoint Presentation</dc:title>
</cp:coreProperties>
</file>